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8.jpeg" ContentType="image/jpeg"/>
  <Override PartName="/ppt/media/image38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7.jpeg" ContentType="image/jpeg"/>
  <Override PartName="/ppt/media/image6.png" ContentType="image/png"/>
  <Override PartName="/ppt/media/image12.jpeg" ContentType="image/jpeg"/>
  <Override PartName="/ppt/media/image4.png" ContentType="image/png"/>
  <Override PartName="/ppt/media/drumroll.wav" ContentType="audio/x-wav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0D5A-033C-4C91-B8ED-CCDEBBAF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0F26-E2D3-406D-825C-729C6169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5D34-D4F2-4FD2-B6FD-DB3D6C9CA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7C3F-B2FD-4EDD-B5F5-3FF10554C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6FCF1-9C4C-4EC0-8A44-BA3601B4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8028F-4386-4B53-97F4-28D15C27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E1AAB-E8C3-428F-B5DC-71FF08CD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A26F2-F331-41D8-B24E-8A57D989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94851-74F4-45BE-9A0F-F2120DDC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A1B64-676A-4359-8CE1-D3432D2D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01442-2849-4203-A3E5-BEBB396A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94ED-78C2-44B4-9EAA-52EDACED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5EA89-1D14-49C3-ADF9-69491CED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1EB01-6061-4B2A-A6C0-3E49DDD4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2498B-CF87-4F4C-9744-A341F546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E2706-CA65-4F10-8D3C-557CCDC40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75BA2-4B49-4B62-8FF7-423E69215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53F2-1A48-4EAB-8B79-5C52D9F3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3B9E-5D5C-4715-9E5B-97BED16C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68D7-0DEF-490E-A4B2-EAD1B939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95EF-91E1-49F0-A2B8-703B0C95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525B-7BE5-4441-850E-FBFFB351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4F64-969D-48E1-B13F-FE037AB9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6AEA-0365-457E-96AE-6FA774BD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FB99-1A0B-4D2B-9464-0C8CFF92C4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CED9-6F64-46CC-A15B-2251B30849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png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777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505"/>
                </a:solidFill>
                <a:latin typeface="Tahoma"/>
              </a:rPr>
              <a:t>MY </a:t>
            </a:r>
            <a:r>
              <a:rPr b="1" i="1" lang="en-US" sz="4400" spc="-1" strike="noStrike">
                <a:solidFill>
                  <a:srgbClr val="fcfc08"/>
                </a:solidFill>
                <a:latin typeface="Tahoma"/>
              </a:rPr>
              <a:t>ABC</a:t>
            </a:r>
            <a:r>
              <a:rPr b="1" i="1" lang="en-US" sz="4400" spc="-1" strike="noStrike">
                <a:solidFill>
                  <a:srgbClr val="ff0505"/>
                </a:solidFill>
                <a:latin typeface="Tahoma"/>
              </a:rPr>
              <a:t> BOO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58920" y="5877000"/>
            <a:ext cx="583236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B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505"/>
                </a:solidFill>
                <a:latin typeface="Tahoma"/>
              </a:rPr>
              <a:t>LUI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ERAR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 rot="20836200">
            <a:off x="826560" y="1628640"/>
            <a:ext cx="7848720" cy="3743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66"/>
                </a:solidFill>
                <a:latin typeface="Tahoma"/>
              </a:rPr>
              <a:t>I   </a:t>
            </a:r>
            <a:r>
              <a:rPr b="1" i="1" lang="en-US" sz="4400" spc="-1" strike="noStrike">
                <a:solidFill>
                  <a:srgbClr val="336600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66ff66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00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 rot="5400000">
            <a:off x="-973440" y="3573360"/>
            <a:ext cx="33847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GUAN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 rot="21038400">
            <a:off x="3492360" y="1483920"/>
            <a:ext cx="468000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032d6"/>
                </a:solidFill>
                <a:latin typeface="Tahoma"/>
              </a:rPr>
              <a:t>J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2d6af"/>
                </a:solidFill>
                <a:latin typeface="Tahoma"/>
              </a:rPr>
              <a:t>F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0099cc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95280" y="5589720"/>
            <a:ext cx="295272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JAGUA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 rot="982200">
            <a:off x="1331640" y="1916280"/>
            <a:ext cx="6913440" cy="3816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ahoma"/>
              </a:rPr>
              <a:t>K </a:t>
            </a:r>
            <a:r>
              <a:rPr b="1" lang="en-US" sz="4400" spc="-1" strike="noStrike">
                <a:solidFill>
                  <a:srgbClr val="00ffff"/>
                </a:solidFill>
                <a:latin typeface="Tahoma"/>
              </a:rPr>
              <a:t> FOR</a:t>
            </a:r>
            <a:r>
              <a:rPr b="1" lang="en-US" sz="4400" spc="-1" strike="noStrike">
                <a:solidFill>
                  <a:srgbClr val="0099cc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00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627280" y="1557360"/>
            <a:ext cx="5977080" cy="4753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 rot="5400000">
            <a:off x="-659520" y="2755080"/>
            <a:ext cx="340524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-4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d0000"/>
                    </a:gs>
                    <a:gs pos="50000">
                      <a:srgbClr val="ffff00"/>
                    </a:gs>
                    <a:gs pos="100000">
                      <a:srgbClr val="fd0000"/>
                    </a:gs>
                  </a:gsLst>
                  <a:lin ang="0"/>
                </a:gradFill>
                <a:latin typeface="Arial Black"/>
              </a:rPr>
              <a:t>KANGAROO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d0000"/>
                  </a:gs>
                  <a:gs pos="50000">
                    <a:srgbClr val="ffff00"/>
                  </a:gs>
                  <a:gs pos="100000">
                    <a:srgbClr val="fd0000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</p:spTree>
  </p:cSld>
  <p:transition spd="slow" advTm="8000">
    <p:random/>
    <p:sndAc>
      <p:stSnd>
        <p:snd r:embed="rId3" name="drumroll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f5ff"/>
                </a:solidFill>
                <a:latin typeface="Tahoma"/>
              </a:rPr>
              <a:t>L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fe0000"/>
                </a:solidFill>
                <a:latin typeface="Tahoma"/>
              </a:rPr>
              <a:t>F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32d6a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7345440" cy="3913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1332000" y="5445000"/>
            <a:ext cx="6192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LION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p:transition spd="slow" advTm="8000">
    <p:random/>
    <p:sndAc>
      <p:stSnd>
        <p:snd r:embed="rId5" name="drumroll.wav"/>
      </p:stSnd>
    </p:sndAc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032d6"/>
                </a:solidFill>
                <a:latin typeface="Tahoma"/>
              </a:rPr>
              <a:t>M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FOR  </a:t>
            </a:r>
            <a:r>
              <a:rPr b="1" i="1" lang="en-US" sz="4400" spc="-1" strike="noStrike">
                <a:solidFill>
                  <a:srgbClr val="ff00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95280" y="5805360"/>
            <a:ext cx="489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66"/>
                    </a:gs>
                  </a:gsLst>
                  <a:lin ang="5400000"/>
                </a:gradFill>
                <a:latin typeface="Times New Roman"/>
              </a:rPr>
              <a:t>MONKEY  AND  MOUS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 rot="21067200">
            <a:off x="610920" y="1773360"/>
            <a:ext cx="3673440" cy="3311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 rot="820800">
            <a:off x="5292360" y="1916280"/>
            <a:ext cx="3166920" cy="30970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4" name="drumroll.wav"/>
      </p:stSnd>
    </p:sndAc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9640" y="5589720"/>
            <a:ext cx="1276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NI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735600">
            <a:off x="3635280" y="1916280"/>
            <a:ext cx="3457800" cy="3554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9900"/>
                </a:solidFill>
                <a:latin typeface="Tahoma"/>
              </a:rPr>
              <a:t>O  </a:t>
            </a:r>
            <a:r>
              <a:rPr b="1" i="1" lang="en-US" sz="4400" spc="-1" strike="noStrike">
                <a:solidFill>
                  <a:srgbClr val="00ff00"/>
                </a:solidFill>
                <a:latin typeface="Tahoma"/>
              </a:rPr>
              <a:t>FOR </a:t>
            </a:r>
            <a:r>
              <a:rPr b="1" i="1" lang="en-US" sz="4400" spc="-1" strike="noStrike">
                <a:solidFill>
                  <a:srgbClr val="cc9900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0066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5013360"/>
            <a:ext cx="9079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otter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 rot="964800">
            <a:off x="2842920" y="1773360"/>
            <a:ext cx="3816360" cy="44686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66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276720" y="1413000"/>
            <a:ext cx="4751280" cy="5445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 rot="5273400">
            <a:off x="-1441440" y="3176280"/>
            <a:ext cx="468000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20644"/>
                <a:gd name="adj2" fmla="val -1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PENGUI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ff"/>
                </a:solidFill>
                <a:latin typeface="Tahoma"/>
              </a:rPr>
              <a:t>Q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FOR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9933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00000" y="5229360"/>
            <a:ext cx="144000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2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QUEEN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348000" y="2060640"/>
            <a:ext cx="3888000" cy="41050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33"/>
                </a:solidFill>
                <a:latin typeface="Tahoma"/>
              </a:rPr>
              <a:t>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0000ff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411280" y="2924280"/>
            <a:ext cx="6121440" cy="36716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 rot="5400000">
            <a:off x="-1260720" y="3213000"/>
            <a:ext cx="4537080" cy="13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RABBIT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</p:spTree>
  </p:cSld>
  <p:transition spd="slow" advTm="8000">
    <p:random/>
    <p:sndAc>
      <p:stSnd>
        <p:snd r:embed="rId5" name="drumroll.wav"/>
      </p:stSnd>
    </p:sndAc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A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FOR  </a:t>
            </a:r>
            <a:r>
              <a:rPr b="1" i="1" lang="en-US" sz="4400" spc="-1" strike="noStrike">
                <a:solidFill>
                  <a:srgbClr val="00ff99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 rot="408600">
            <a:off x="250560" y="5516640"/>
            <a:ext cx="4319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8c3d91"/>
                    </a:gs>
                  </a:gsLst>
                  <a:lin ang="5400000"/>
                </a:gradFill>
                <a:latin typeface="Arial Black"/>
              </a:rPr>
              <a:t>A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8c3d91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268360" y="1557360"/>
            <a:ext cx="4824720" cy="3672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98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d0000"/>
                </a:solidFill>
                <a:latin typeface="Tahoma"/>
              </a:rPr>
              <a:t>S </a:t>
            </a:r>
            <a:r>
              <a:rPr b="1" i="1" lang="en-US" sz="44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c8604"/>
                </a:solidFill>
                <a:latin typeface="Tahoma"/>
              </a:rPr>
              <a:t>FOR </a:t>
            </a:r>
            <a:r>
              <a:rPr b="1" i="1" lang="en-US" sz="44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9280" y="5516640"/>
            <a:ext cx="2592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SQUIRRE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916360" y="1989000"/>
            <a:ext cx="3024000" cy="4321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588000" y="3141720"/>
            <a:ext cx="1924200" cy="23810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4" name="drumroll.wav"/>
      </p:stSnd>
    </p:sndAc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ahoma"/>
              </a:rPr>
              <a:t>T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9933"/>
                </a:solidFill>
                <a:latin typeface="Tahoma"/>
              </a:rPr>
              <a:t>FOR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00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95280" y="5229360"/>
            <a:ext cx="2133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8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TURKE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843280" y="1413000"/>
            <a:ext cx="568944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76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Tahoma"/>
              </a:rPr>
              <a:t>U  </a:t>
            </a: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920" y="2708280"/>
            <a:ext cx="202860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9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Arial Black"/>
              </a:rPr>
              <a:t>UNICOR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276720" y="1484280"/>
            <a:ext cx="4967280" cy="4751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ff"/>
                </a:solidFill>
                <a:latin typeface="Tahoma"/>
              </a:rPr>
              <a:t>V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00ff00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79280" y="5445000"/>
            <a:ext cx="324180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</a:rPr>
              <a:t>VIRU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032360" cy="40338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768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768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6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8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W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0000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95280" y="5373720"/>
            <a:ext cx="619272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Impact"/>
              </a:rPr>
              <a:t>W H A L E  A N D  W O L F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00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2624040" cy="3456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572000" y="1844640"/>
            <a:ext cx="3384720" cy="3024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4" name="drumroll.wav"/>
      </p:stSnd>
    </p:sndAc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ahoma"/>
              </a:rPr>
              <a:t>X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00c600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95280" y="5373720"/>
            <a:ext cx="320040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XYLOPHON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547640" y="1989000"/>
            <a:ext cx="6266160" cy="3024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0000ff"/>
                </a:solidFill>
                <a:latin typeface="Tahoma"/>
              </a:rPr>
              <a:t>FOR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95280" y="5589720"/>
            <a:ext cx="3152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2705a3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Impact"/>
              </a:rPr>
              <a:t>YETI  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2705a3"/>
                  </a:gs>
                  <a:gs pos="100000">
                    <a:srgbClr val="ff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 rot="1347000">
            <a:off x="3419280" y="2205000"/>
            <a:ext cx="4321080" cy="33847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26920" y="404640"/>
            <a:ext cx="777564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Y  PARA  EL  FINAL  ...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</p:spTree>
  </p:cSld>
  <p:transition spd="slow" advTm="8000">
    <p:random/>
    <p:sndAc>
      <p:stSnd>
        <p:snd r:embed="rId2" name="drumroll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Z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cc9900"/>
                </a:solidFill>
                <a:latin typeface="Tahoma"/>
              </a:rPr>
              <a:t>FOR </a:t>
            </a:r>
            <a:r>
              <a:rPr b="1" i="1" lang="en-US" sz="4400" spc="-1" strike="noStrike">
                <a:solidFill>
                  <a:srgbClr val="ff9933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4360" y="5516640"/>
            <a:ext cx="17240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8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ZEBRAS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3419640" y="4653000"/>
            <a:ext cx="4411440" cy="1847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5435640" y="1557360"/>
            <a:ext cx="3384360" cy="2303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539640" y="1557360"/>
            <a:ext cx="4176720" cy="2808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7" name="drumroll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3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116000" y="1125360"/>
            <a:ext cx="712944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>
                        <a:alpha val="0"/>
                      </a:srgbClr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BYE ,  BYE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>
                      <a:alpha val="0"/>
                    </a:srgbClr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 advTm="8000">
    <p:random/>
    <p:sndAc>
      <p:stSnd>
        <p:snd r:embed="rId2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Tahoma"/>
              </a:rPr>
              <a:t>B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efe44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26920" y="6021360"/>
            <a:ext cx="74901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BEA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843280" y="1557360"/>
            <a:ext cx="3600360" cy="4032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4400" spc="-1" strike="noStrike">
                <a:solidFill>
                  <a:srgbClr val="0000ff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66ff66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4360" y="5373720"/>
            <a:ext cx="41036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crocodri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835280" y="1773360"/>
            <a:ext cx="5400720" cy="3241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66"/>
                </a:solidFill>
                <a:latin typeface="Tahoma"/>
              </a:rPr>
              <a:t>D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9032d6"/>
                </a:solidFill>
                <a:latin typeface="Tahoma"/>
              </a:rPr>
              <a:t>FOR </a:t>
            </a:r>
            <a:r>
              <a:rPr b="1" i="1" lang="en-US" sz="4400" spc="-1" strike="noStrike">
                <a:solidFill>
                  <a:srgbClr val="6699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rot="915600">
            <a:off x="684000" y="1699920"/>
            <a:ext cx="7705440" cy="3816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 rot="21240000">
            <a:off x="323640" y="5229000"/>
            <a:ext cx="2879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771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d0000"/>
                    </a:gs>
                    <a:gs pos="50000">
                      <a:srgbClr val="000000"/>
                    </a:gs>
                    <a:gs pos="100000">
                      <a:srgbClr val="fd0000"/>
                    </a:gs>
                  </a:gsLst>
                  <a:lin ang="5760000"/>
                </a:gradFill>
                <a:latin typeface="Times New Roman"/>
              </a:rPr>
              <a:t>DRAG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d0000"/>
                  </a:gs>
                  <a:gs pos="50000">
                    <a:srgbClr val="000000"/>
                  </a:gs>
                  <a:gs pos="100000">
                    <a:srgbClr val="fd0000"/>
                  </a:gs>
                </a:gsLst>
                <a:lin ang="5760000"/>
              </a:gradFill>
              <a:latin typeface="Times New Roman"/>
              <a:ea typeface="Times New Roman"/>
            </a:endParaRPr>
          </a:p>
        </p:txBody>
      </p:sp>
    </p:spTree>
  </p:cSld>
  <p:transition spd="slow" advTm="8000">
    <p:random/>
    <p:sndAc>
      <p:stSnd>
        <p:snd r:embed="rId3" name="drumroll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99ff"/>
                </a:solidFill>
                <a:latin typeface="Tahoma"/>
              </a:rPr>
              <a:t>E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9933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 rot="21247800">
            <a:off x="6946920" y="5281200"/>
            <a:ext cx="1871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754000"/>
                </a:gradFill>
                <a:latin typeface="Impact"/>
              </a:rPr>
              <a:t>ELEPHANT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754000"/>
              </a:gradFill>
              <a:latin typeface="Impact"/>
              <a:ea typeface="Impac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 rot="21130200">
            <a:off x="394920" y="1557000"/>
            <a:ext cx="6265800" cy="4751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9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00"/>
                </a:solidFill>
                <a:latin typeface="Tahoma"/>
              </a:rPr>
              <a:t>F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4400" spc="-1" strike="noStrike">
                <a:solidFill>
                  <a:srgbClr val="fefe44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33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 rot="21471600">
            <a:off x="250560" y="4300200"/>
            <a:ext cx="1411200" cy="19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5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Times New Roman"/>
              </a:rPr>
              <a:t>FOX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 rot="594600">
            <a:off x="2627280" y="1700280"/>
            <a:ext cx="5472000" cy="4608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Tahoma"/>
              </a:rPr>
              <a:t>G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FOR </a:t>
            </a:r>
            <a:r>
              <a:rPr b="1" i="1" lang="en-US" sz="4400" spc="-1" strike="noStrike">
                <a:solidFill>
                  <a:srgbClr val="ff33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5661000"/>
            <a:ext cx="5105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666699"/>
                    </a:gs>
                  </a:gsLst>
                  <a:lin ang="5400000"/>
                </a:gradFill>
                <a:latin typeface="Times New Roman"/>
              </a:rPr>
              <a:t>GIRAFFE AND GORILL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6666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 rot="20232600">
            <a:off x="539280" y="1483920"/>
            <a:ext cx="3313080" cy="3384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 rot="982800">
            <a:off x="4787640" y="2060280"/>
            <a:ext cx="3960720" cy="34718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4" name="drumroll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e0000"/>
                </a:solidFill>
                <a:latin typeface="Tahoma"/>
              </a:rPr>
              <a:t>H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66ff66"/>
                </a:solidFill>
                <a:latin typeface="Tahoma"/>
              </a:rPr>
              <a:t>FOR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9032d6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332000" y="2205000"/>
            <a:ext cx="1944720" cy="1886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148360" y="1844640"/>
            <a:ext cx="3598920" cy="2376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 rot="322800">
            <a:off x="1547640" y="4653000"/>
            <a:ext cx="5400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8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HAMSTER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p:transition spd="slow" advTm="8000">
    <p:random/>
    <p:sndAc>
      <p:stSnd>
        <p:snd r:embed="rId4" name="drumroll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7:39:03Z</dcterms:created>
  <dc:creator>Lui$ G€rardo Chagua</dc:creator>
  <dc:description/>
  <dc:language>en-US</dc:language>
  <cp:lastModifiedBy>Lui$ G€rardo Chagua</cp:lastModifiedBy>
  <dcterms:modified xsi:type="dcterms:W3CDTF">2011-10-20T16:30:22Z</dcterms:modified>
  <cp:revision>12</cp:revision>
  <dc:subject/>
  <dc:title>Diapositiva 3</dc:title>
</cp:coreProperties>
</file>