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7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drumroll.wav" ContentType="audio/x-wav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3B2-B5C5-4314-A682-295C8891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892-F4CC-4782-9F66-8F9EE3D1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A5C-538D-4458-AD59-31E4010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FBB-2910-4E5B-B3A8-09DC2662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599F0-5844-4F82-86F9-DB990854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64125-9D67-4B23-8BCA-E4BBC2F9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EF7FB-9B29-4F2F-9E57-E55D19F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12EE2-2704-4B34-BD72-5455423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8D570-EFEA-4A22-A4D4-1F2F7D94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FB509-8659-4982-9DEC-CB8F1C05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E3F1D-1C24-42EE-99CA-8677520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059-EB18-498D-862F-51C2D0C7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E15F1-94BB-4BB2-8F5D-3758F354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A6497-2204-4365-ABAA-6F37B69E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E954E-F963-4E7E-90A7-058328AB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2B17B-2C0F-492E-9CC6-0A317EB0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92D4A-89E0-41F1-AD71-6D9723C2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9D3-E7F5-4782-92AA-C9BDC3E8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B94-64D9-4E98-A7E2-9FF122E2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1FF-2301-4B03-8E7B-9A1F42C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B83-C3E1-4D3E-B3D3-2EC07745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0B3-9BF2-44E4-B2C3-5FDFD78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89C-D225-4A6E-B218-4EB1138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E38-0FF2-4F22-AE17-6F8859BD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94A4-F896-4554-A993-F4597021B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F787-6416-4AA2-B85D-E19B99D24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MY </a:t>
            </a:r>
            <a:r>
              <a:rPr b="1" i="1" lang="en-US" sz="4400" spc="-1" strike="noStrike">
                <a:solidFill>
                  <a:srgbClr val="fcfc08"/>
                </a:solidFill>
                <a:latin typeface="Tahoma"/>
              </a:rPr>
              <a:t>ABC</a:t>
            </a: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 BO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58920" y="5877000"/>
            <a:ext cx="58323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505"/>
                </a:solidFill>
                <a:latin typeface="Tahoma"/>
              </a:rPr>
              <a:t>LU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RA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0836200">
            <a:off x="826560" y="1628640"/>
            <a:ext cx="7848720" cy="3743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I   </a:t>
            </a:r>
            <a:r>
              <a:rPr b="1" i="1" lang="en-US" sz="4400" spc="-1" strike="noStrike">
                <a:solidFill>
                  <a:srgbClr val="336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73440" y="357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GU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038400">
            <a:off x="3492360" y="148392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032d6"/>
                </a:solidFill>
                <a:latin typeface="Tahoma"/>
              </a:rPr>
              <a:t>J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5589720"/>
            <a:ext cx="29527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JAGU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82200">
            <a:off x="1331640" y="1916280"/>
            <a:ext cx="6913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K </a:t>
            </a:r>
            <a:r>
              <a:rPr b="1" lang="en-US" sz="4400" spc="-1" strike="noStrike">
                <a:solidFill>
                  <a:srgbClr val="00ffff"/>
                </a:solidFill>
                <a:latin typeface="Tahoma"/>
              </a:rPr>
              <a:t> FOR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5977080" cy="475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659520" y="2755080"/>
            <a:ext cx="34052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ffff00"/>
                    </a:gs>
                    <a:gs pos="100000">
                      <a:srgbClr val="fd0000"/>
                    </a:gs>
                  </a:gsLst>
                  <a:lin ang="0"/>
                </a:gradFill>
                <a:latin typeface="Arial Black"/>
              </a:rPr>
              <a:t>KANGARO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d0000"/>
                  </a:gs>
                  <a:gs pos="50000">
                    <a:srgbClr val="ffff00"/>
                  </a:gs>
                  <a:gs pos="100000">
                    <a:srgbClr val="fd0000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f5ff"/>
                </a:solidFill>
                <a:latin typeface="Tahoma"/>
              </a:rPr>
              <a:t>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e0000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34544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332000" y="5445000"/>
            <a:ext cx="619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L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M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5805360"/>
            <a:ext cx="489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Times New Roman"/>
              </a:rPr>
              <a:t>MONKEY  AND  MOUS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1067200">
            <a:off x="610920" y="1773360"/>
            <a:ext cx="3673440" cy="33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820800">
            <a:off x="5292360" y="191628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5589720"/>
            <a:ext cx="127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N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735600">
            <a:off x="3635280" y="1916280"/>
            <a:ext cx="345780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O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5013360"/>
            <a:ext cx="907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ott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964800">
            <a:off x="2842920" y="1773360"/>
            <a:ext cx="3816360" cy="446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4751280" cy="544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5273400">
            <a:off x="-1441440" y="3176280"/>
            <a:ext cx="46800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-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ENGU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Q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5229360"/>
            <a:ext cx="1440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QU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6121440" cy="367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5400000">
            <a:off x="-1260720" y="321300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RABBIT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00ff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 rot="408600">
            <a:off x="250560" y="5516640"/>
            <a:ext cx="431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Black"/>
              </a:rPr>
              <a:t>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c3d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0000"/>
                </a:solidFill>
                <a:latin typeface="Tahoma"/>
              </a:rPr>
              <a:t>S </a:t>
            </a:r>
            <a:r>
              <a:rPr b="1" i="1" lang="en-US" sz="4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c8604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5516640"/>
            <a:ext cx="259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SQUIRR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024000" cy="432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924200" cy="2381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522936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URKE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U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2708280"/>
            <a:ext cx="20286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UNICO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496728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V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5445000"/>
            <a:ext cx="324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VIR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0323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5373720"/>
            <a:ext cx="6192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W H A L E  A N D  W O L F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62404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c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5373720"/>
            <a:ext cx="3200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XYLOPH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26616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5589720"/>
            <a:ext cx="31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2705a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YETI 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2705a3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347000">
            <a:off x="3419280" y="2205000"/>
            <a:ext cx="432108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920" y="404640"/>
            <a:ext cx="77756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Y  PARA  EL  FINAL  ...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Z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551664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ZEBRA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441144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3384360" cy="2303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7" name="drumroll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16000" y="1125360"/>
            <a:ext cx="71294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0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BYE ,  BYE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>
                      <a:alpha val="0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6021360"/>
            <a:ext cx="7490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B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60036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5373720"/>
            <a:ext cx="410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crocodr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00720" cy="324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D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915600">
            <a:off x="684000" y="1699920"/>
            <a:ext cx="7705440" cy="38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240000">
            <a:off x="323640" y="5229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000000"/>
                    </a:gs>
                    <a:gs pos="100000">
                      <a:srgbClr val="fd0000"/>
                    </a:gs>
                  </a:gsLst>
                  <a:lin ang="5760000"/>
                </a:gradFill>
                <a:latin typeface="Times New Roman"/>
              </a:rPr>
              <a:t>DRAG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0000"/>
                  </a:gs>
                  <a:gs pos="50000">
                    <a:srgbClr val="000000"/>
                  </a:gs>
                  <a:gs pos="100000">
                    <a:srgbClr val="fd0000"/>
                  </a:gs>
                </a:gsLst>
                <a:lin ang="576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 rot="21247800">
            <a:off x="6946920" y="5281200"/>
            <a:ext cx="187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754000"/>
                </a:gradFill>
                <a:latin typeface="Impact"/>
              </a:rPr>
              <a:t>ELEPHA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754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1130200">
            <a:off x="394920" y="1557000"/>
            <a:ext cx="626580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F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 rot="21471600">
            <a:off x="250560" y="4300200"/>
            <a:ext cx="141120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FOX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94600">
            <a:off x="2627280" y="1700280"/>
            <a:ext cx="54720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FOR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5661000"/>
            <a:ext cx="5105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666699"/>
                    </a:gs>
                  </a:gsLst>
                  <a:lin ang="5400000"/>
                </a:gradFill>
                <a:latin typeface="Times New Roman"/>
              </a:rPr>
              <a:t>GIRAFFE AND GORI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6666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0232600">
            <a:off x="539280" y="1483920"/>
            <a:ext cx="3313080" cy="338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982800">
            <a:off x="4787640" y="2060280"/>
            <a:ext cx="396072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0000"/>
                </a:solidFill>
                <a:latin typeface="Tahoma"/>
              </a:rPr>
              <a:t>H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194472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59892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322800">
            <a:off x="154764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HAMST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9:03Z</dcterms:created>
  <dc:creator>Lui$ G€rardo Chagua</dc:creator>
  <dc:description/>
  <dc:language>en-US</dc:language>
  <cp:lastModifiedBy>Lui$ G€rardo Chagua</cp:lastModifiedBy>
  <dcterms:modified xsi:type="dcterms:W3CDTF">2011-10-20T16:30:22Z</dcterms:modified>
  <cp:revision>12</cp:revision>
  <dc:subject/>
  <dc:title>Diapositiva 3</dc:title>
</cp:coreProperties>
</file>