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8.jpeg" ContentType="image/jpeg"/>
  <Override PartName="/ppt/media/image3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7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drumroll.wav" ContentType="audio/x-wav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107-6452-4664-BECF-3EA1BB6A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7FC-7673-446A-A384-AF7FAD2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BD6-1308-4DA2-A799-B0450404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C09-6A07-459E-B4CF-7D4A39CE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DDB7B-538D-4014-A303-79699682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6C9AC-61FC-4586-BE21-EFB9A1D6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710DE-2E50-499F-BE50-4986C6F7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4C11E-1AFF-4B27-B8A4-8574A676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7CBDC-71D3-47AF-B351-2F19FF76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68DFC-BFC6-4913-B9F1-A6C68BA0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E7CF1-E954-4DF8-BEF8-4B68A646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6A6-C679-42D1-8D16-CD233FDF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02BAC-5C30-4CA8-A0B9-8B958021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AA766-DF17-4577-A38D-CC6D78EF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A3235-F4FD-4976-A4B9-E6520D22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02A71-B3BF-48CF-84FE-083F4F4F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7C464-2AA4-437D-962B-EA4938AB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E4A-2F23-4925-AC4D-C370392D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FB2-D339-4400-848A-E23D1327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751-6242-473B-AFFB-96E3930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93D-E72A-464E-B869-AD49E5B3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CFC-B20A-4E4F-8141-A849F99D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2BD-FFA5-4E67-89D1-94086D78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D55-D291-4BBE-BA76-2645E1AA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0798-4AE4-40D2-A73C-ADB6EC2DC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809D-E508-41FD-8C1B-DBBC1BA53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505"/>
                </a:solidFill>
                <a:latin typeface="Tahoma"/>
              </a:rPr>
              <a:t>MY </a:t>
            </a:r>
            <a:r>
              <a:rPr b="1" i="1" lang="en-US" sz="4400" spc="-1" strike="noStrike">
                <a:solidFill>
                  <a:srgbClr val="fcfc08"/>
                </a:solidFill>
                <a:latin typeface="Tahoma"/>
              </a:rPr>
              <a:t>ABC</a:t>
            </a:r>
            <a:r>
              <a:rPr b="1" i="1" lang="en-US" sz="4400" spc="-1" strike="noStrike">
                <a:solidFill>
                  <a:srgbClr val="ff0505"/>
                </a:solidFill>
                <a:latin typeface="Tahoma"/>
              </a:rPr>
              <a:t> BOO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58920" y="5877000"/>
            <a:ext cx="583236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B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505"/>
                </a:solidFill>
                <a:latin typeface="Tahoma"/>
              </a:rPr>
              <a:t>LU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ERAR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0836200">
            <a:off x="826560" y="1628640"/>
            <a:ext cx="7848720" cy="3743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I   </a:t>
            </a:r>
            <a:r>
              <a:rPr b="1" i="1" lang="en-US" sz="4400" spc="-1" strike="noStrike">
                <a:solidFill>
                  <a:srgbClr val="3366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973440" y="3573360"/>
            <a:ext cx="3384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GU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1038400">
            <a:off x="3492360" y="1483920"/>
            <a:ext cx="46800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032d6"/>
                </a:solidFill>
                <a:latin typeface="Tahoma"/>
              </a:rPr>
              <a:t>J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2d6af"/>
                </a:solidFill>
                <a:latin typeface="Tahoma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5589720"/>
            <a:ext cx="29527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JAGU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982200">
            <a:off x="1331640" y="1916280"/>
            <a:ext cx="691344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K </a:t>
            </a:r>
            <a:r>
              <a:rPr b="1" lang="en-US" sz="4400" spc="-1" strike="noStrike">
                <a:solidFill>
                  <a:srgbClr val="00ffff"/>
                </a:solidFill>
                <a:latin typeface="Tahoma"/>
              </a:rPr>
              <a:t> FOR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5977080" cy="4753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5400000">
            <a:off x="-659520" y="2755080"/>
            <a:ext cx="34052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d0000"/>
                    </a:gs>
                    <a:gs pos="50000">
                      <a:srgbClr val="ffff00"/>
                    </a:gs>
                    <a:gs pos="100000">
                      <a:srgbClr val="fd0000"/>
                    </a:gs>
                  </a:gsLst>
                  <a:lin ang="0"/>
                </a:gradFill>
                <a:latin typeface="Arial Black"/>
              </a:rPr>
              <a:t>KANGARO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d0000"/>
                  </a:gs>
                  <a:gs pos="50000">
                    <a:srgbClr val="ffff00"/>
                  </a:gs>
                  <a:gs pos="100000">
                    <a:srgbClr val="fd0000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f5ff"/>
                </a:solidFill>
                <a:latin typeface="Tahoma"/>
              </a:rPr>
              <a:t>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e0000"/>
                </a:solidFill>
                <a:latin typeface="Tahoma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32d6a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345440" cy="391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332000" y="5445000"/>
            <a:ext cx="619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L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slow" advTm="8000">
    <p:random/>
    <p:sndAc>
      <p:stSnd>
        <p:snd r:embed="rId5" name="drumroll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M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FOR 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5805360"/>
            <a:ext cx="489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Times New Roman"/>
              </a:rPr>
              <a:t>MONKEY  AND  MOUS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21067200">
            <a:off x="610920" y="1773360"/>
            <a:ext cx="3673440" cy="331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820800">
            <a:off x="5292360" y="191628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5589720"/>
            <a:ext cx="127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N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735600">
            <a:off x="3635280" y="1916280"/>
            <a:ext cx="345780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O 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5013360"/>
            <a:ext cx="907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otte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964800">
            <a:off x="2842920" y="1773360"/>
            <a:ext cx="3816360" cy="446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66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76720" y="1413000"/>
            <a:ext cx="4751280" cy="544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5273400">
            <a:off x="-1441440" y="3176280"/>
            <a:ext cx="46800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-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ENGU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Q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00000" y="5229360"/>
            <a:ext cx="1440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QUEE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1280" y="2924280"/>
            <a:ext cx="6121440" cy="3671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 rot="5400000">
            <a:off x="-1260720" y="3213000"/>
            <a:ext cx="4537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RABBIT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5" name="drumroll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  </a:t>
            </a:r>
            <a:r>
              <a:rPr b="1" i="1" lang="en-US" sz="4400" spc="-1" strike="noStrike">
                <a:solidFill>
                  <a:srgbClr val="00ff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 rot="408600">
            <a:off x="250560" y="5516640"/>
            <a:ext cx="431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 Black"/>
              </a:rPr>
              <a:t>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8c3d9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82472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d0000"/>
                </a:solidFill>
                <a:latin typeface="Tahoma"/>
              </a:rPr>
              <a:t>S </a:t>
            </a:r>
            <a:r>
              <a:rPr b="1" i="1" lang="en-US" sz="4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c8604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5516640"/>
            <a:ext cx="259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SQUIRR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3024000" cy="432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924200" cy="2381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5229360"/>
            <a:ext cx="213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URKE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568944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U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2708280"/>
            <a:ext cx="202860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UNICO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76720" y="1484280"/>
            <a:ext cx="496728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V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80" y="5445000"/>
            <a:ext cx="3241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VIR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03236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5373720"/>
            <a:ext cx="61927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Impact"/>
              </a:rPr>
              <a:t>W H A L E  A N D  W O L F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624040" cy="345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338472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X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c6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5373720"/>
            <a:ext cx="32004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XYLOPH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626616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5589720"/>
            <a:ext cx="31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2705a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YETI 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2705a3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1347000">
            <a:off x="3419280" y="2205000"/>
            <a:ext cx="432108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6920" y="404640"/>
            <a:ext cx="77756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Y  PARA  EL  FINAL  ...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slow" advTm="8000">
    <p:random/>
    <p:sndAc>
      <p:stSnd>
        <p:snd r:embed="rId2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Z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551664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ZEBRA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419640" y="4653000"/>
            <a:ext cx="441144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35640" y="1557360"/>
            <a:ext cx="3384360" cy="2303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39640" y="155736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7" name="drumroll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116000" y="1125360"/>
            <a:ext cx="712944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0"/>
                      </a:srgbClr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BYE ,  BYE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>
                      <a:alpha val="0"/>
                    </a:srgbClr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efe44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6021360"/>
            <a:ext cx="7490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B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60036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5373720"/>
            <a:ext cx="410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crocodr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400720" cy="324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D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915600">
            <a:off x="684000" y="1699920"/>
            <a:ext cx="7705440" cy="381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21240000">
            <a:off x="323640" y="522900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7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0000"/>
                    </a:gs>
                    <a:gs pos="50000">
                      <a:srgbClr val="000000"/>
                    </a:gs>
                    <a:gs pos="100000">
                      <a:srgbClr val="fd0000"/>
                    </a:gs>
                  </a:gsLst>
                  <a:lin ang="5760000"/>
                </a:gradFill>
                <a:latin typeface="Times New Roman"/>
              </a:rPr>
              <a:t>DRAG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0000"/>
                  </a:gs>
                  <a:gs pos="50000">
                    <a:srgbClr val="000000"/>
                  </a:gs>
                  <a:gs pos="100000">
                    <a:srgbClr val="fd0000"/>
                  </a:gs>
                </a:gsLst>
                <a:lin ang="576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E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9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 rot="21247800">
            <a:off x="6946920" y="5281200"/>
            <a:ext cx="187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754000"/>
                </a:gradFill>
                <a:latin typeface="Impact"/>
              </a:rPr>
              <a:t>ELEPHAN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754000"/>
              </a:gra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21130200">
            <a:off x="394920" y="1557000"/>
            <a:ext cx="626580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ahoma"/>
              </a:rPr>
              <a:t>F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efe44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 rot="21471600">
            <a:off x="250560" y="4300200"/>
            <a:ext cx="141120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FOX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594600">
            <a:off x="2627280" y="1700280"/>
            <a:ext cx="547200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FOR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5661000"/>
            <a:ext cx="5105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666699"/>
                    </a:gs>
                  </a:gsLst>
                  <a:lin ang="5400000"/>
                </a:gradFill>
                <a:latin typeface="Times New Roman"/>
              </a:rPr>
              <a:t>GIRAFFE AND GORI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6666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0232600">
            <a:off x="539280" y="1483920"/>
            <a:ext cx="3313080" cy="338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982800">
            <a:off x="4787640" y="2060280"/>
            <a:ext cx="396072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0000"/>
                </a:solidFill>
                <a:latin typeface="Tahoma"/>
              </a:rPr>
              <a:t>H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1944720" cy="188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598920" cy="23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322800">
            <a:off x="1547640" y="465300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HAMSTE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4" name="drumroll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7:39:03Z</dcterms:created>
  <dc:creator>Lui$ G€rardo Chagua</dc:creator>
  <dc:description/>
  <dc:language>en-US</dc:language>
  <cp:lastModifiedBy>Lui$ G€rardo Chagua</cp:lastModifiedBy>
  <dcterms:modified xsi:type="dcterms:W3CDTF">2011-10-20T16:30:22Z</dcterms:modified>
  <cp:revision>12</cp:revision>
  <dc:subject/>
  <dc:title>Diapositiva 3</dc:title>
</cp:coreProperties>
</file>