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81D-FB39-4424-8A28-2D3A0CE8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26C-3B9E-4562-8B30-35103061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C7C-32E6-4A78-A08A-75445E0B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0CF-9C03-4A59-9AC5-93BCD2FB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FFE-0A88-434E-B5C6-DB99F43D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9F1-B430-443D-A691-B19D5B75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0FB-A91A-4A0C-A0B0-BCDAC601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0DB-D9C1-46B9-B12E-89C6BBDD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CC0-7B5D-42E5-B8E3-C49E0C1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FB3-BC4B-48F2-879E-86E50A0A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066-D959-4EEE-9C04-56711BF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FCB-824A-4FA9-B2E2-9DB2A91E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F21-CFE3-4DF5-8DDC-AA8898EC4B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ff0066"/>
                </a:solidFill>
                <a:uFillTx/>
                <a:latin typeface="Comic Sans MS"/>
              </a:rPr>
              <a:t>Made b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569440" cy="3600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66"/>
                </a:solidFill>
                <a:latin typeface="Cooper Black"/>
              </a:rPr>
              <a:t>MARI CARMEN CAMPAÑA GÓMEZ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66"/>
                </a:solidFill>
                <a:latin typeface="Cooper Black"/>
              </a:rPr>
              <a:t>1º B B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0066"/>
                </a:solidFill>
                <a:uFillTx/>
                <a:latin typeface="Cooper Black"/>
              </a:rPr>
              <a:t>Soup of semola with ch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47640" y="2637000"/>
            <a:ext cx="230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opa_445d87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 u="sng">
                <a:solidFill>
                  <a:srgbClr val="ff0066"/>
                </a:solidFill>
                <a:uFillTx/>
                <a:latin typeface="Cooper Black"/>
              </a:rPr>
              <a:t>Ingred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50920" y="1699920"/>
            <a:ext cx="4176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chicken 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l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car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50 gr. Be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1 pot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otato_heart_mutation"/>
          <p:cNvPicPr/>
          <p:nvPr/>
        </p:nvPicPr>
        <p:blipFill>
          <a:blip r:embed="rId1"/>
          <a:stretch/>
        </p:blipFill>
        <p:spPr>
          <a:xfrm>
            <a:off x="3276720" y="4653000"/>
            <a:ext cx="2232000" cy="195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ealth-Benefits-of-Carrot"/>
          <p:cNvPicPr/>
          <p:nvPr/>
        </p:nvPicPr>
        <p:blipFill>
          <a:blip r:embed="rId2"/>
          <a:stretch/>
        </p:blipFill>
        <p:spPr>
          <a:xfrm>
            <a:off x="6227640" y="4005360"/>
            <a:ext cx="2497320" cy="166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litas"/>
          <p:cNvPicPr/>
          <p:nvPr/>
        </p:nvPicPr>
        <p:blipFill>
          <a:blip r:embed="rId3"/>
          <a:stretch/>
        </p:blipFill>
        <p:spPr>
          <a:xfrm>
            <a:off x="4500720" y="1628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ff0066"/>
                </a:solidFill>
                <a:uFillTx/>
                <a:latin typeface="Cooper Black"/>
              </a:rPr>
              <a:t>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 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ot"/>
          <p:cNvPicPr/>
          <p:nvPr/>
        </p:nvPicPr>
        <p:blipFill>
          <a:blip r:embed="rId1"/>
          <a:stretch/>
        </p:blipFill>
        <p:spPr>
          <a:xfrm>
            <a:off x="4067280" y="1628640"/>
            <a:ext cx="4738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 u="sng">
                <a:solidFill>
                  <a:srgbClr val="ff0066"/>
                </a:solidFill>
                <a:uFillTx/>
                <a:latin typeface="Cooper Black"/>
              </a:rPr>
              <a:t>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1. First, put  everything into a pot for 20 minutes over low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2. Second, it is removed and cast into the br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3.Later, chop the wing into pieces, add a little bit of carrot and po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4.Finnally add the broth and b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9:57:29Z</dcterms:created>
  <dc:creator>SOBREMESA</dc:creator>
  <dc:description/>
  <dc:language>en-US</dc:language>
  <cp:lastModifiedBy>YOLI RG</cp:lastModifiedBy>
  <dcterms:modified xsi:type="dcterms:W3CDTF">2012-05-26T11:45:35Z</dcterms:modified>
  <cp:revision>4</cp:revision>
  <dc:subject/>
  <dc:title>Made by:</dc:title>
</cp:coreProperties>
</file>