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6ED-5214-43E7-9D85-51880222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739-7992-47CD-9BB3-C735112C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E52-9AE0-4070-A609-896E8E68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ABA-DF56-4D76-A58C-6777C799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BC9-CCAC-4BFC-8F2A-F967F03C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B15-20F3-42CB-BEE3-315D4D1A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26B-6CC4-4FF4-843C-55DCFA5B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686-0CF3-40DE-94B1-8549678D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644-0128-43AA-9539-3743029D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536-9303-4466-8F66-258AC1E5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7CC-BDEE-439F-84AF-6B1B268F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154-D233-4479-8F0F-1939CB4F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59F6-7B27-4BEE-B2CC-333427B708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 u="sng">
                <a:solidFill>
                  <a:srgbClr val="ff0066"/>
                </a:solidFill>
                <a:uFillTx/>
                <a:latin typeface="Comic Sans MS"/>
              </a:rPr>
              <a:t>Made by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8569440" cy="36003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66"/>
                </a:solidFill>
                <a:latin typeface="Cooper Black"/>
              </a:rPr>
              <a:t>MARI CARMEN CAMPAÑA GÓMEZ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66"/>
                </a:solidFill>
                <a:latin typeface="Cooper Black"/>
              </a:rPr>
              <a:t>1º B BI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0066"/>
                </a:solidFill>
                <a:uFillTx/>
                <a:latin typeface="Cooper Black"/>
              </a:rPr>
              <a:t>Soup of semola with chic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47640" y="2637000"/>
            <a:ext cx="2303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sopa_445d87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 u="sng">
                <a:solidFill>
                  <a:srgbClr val="ff0066"/>
                </a:solidFill>
                <a:uFillTx/>
                <a:latin typeface="Cooper Black"/>
              </a:rPr>
              <a:t>Ingredie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50920" y="1699920"/>
            <a:ext cx="4176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1 chicken 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1 l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1 carr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150 gr. Be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1 pot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Potato_heart_mutation"/>
          <p:cNvPicPr/>
          <p:nvPr/>
        </p:nvPicPr>
        <p:blipFill>
          <a:blip r:embed="rId1"/>
          <a:stretch/>
        </p:blipFill>
        <p:spPr>
          <a:xfrm>
            <a:off x="3276720" y="4653000"/>
            <a:ext cx="2232000" cy="1950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ealth-Benefits-of-Carrot"/>
          <p:cNvPicPr/>
          <p:nvPr/>
        </p:nvPicPr>
        <p:blipFill>
          <a:blip r:embed="rId2"/>
          <a:stretch/>
        </p:blipFill>
        <p:spPr>
          <a:xfrm>
            <a:off x="6227640" y="4005360"/>
            <a:ext cx="2497320" cy="166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litas"/>
          <p:cNvPicPr/>
          <p:nvPr/>
        </p:nvPicPr>
        <p:blipFill>
          <a:blip r:embed="rId3"/>
          <a:stretch/>
        </p:blipFill>
        <p:spPr>
          <a:xfrm>
            <a:off x="4500720" y="1628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 u="sng">
                <a:solidFill>
                  <a:srgbClr val="ff0066"/>
                </a:solidFill>
                <a:uFillTx/>
                <a:latin typeface="Cooper Black"/>
              </a:rPr>
              <a:t>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 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ot"/>
          <p:cNvPicPr/>
          <p:nvPr/>
        </p:nvPicPr>
        <p:blipFill>
          <a:blip r:embed="rId1"/>
          <a:stretch/>
        </p:blipFill>
        <p:spPr>
          <a:xfrm>
            <a:off x="4067280" y="1628640"/>
            <a:ext cx="47386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 u="sng">
                <a:solidFill>
                  <a:srgbClr val="ff0066"/>
                </a:solidFill>
                <a:uFillTx/>
                <a:latin typeface="Cooper Black"/>
              </a:rPr>
              <a:t>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1. First, put  everything into a pot for 20 minutes over low h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2. Second, it is removed and cast into the br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3.Later, chop the wing into pieces, add a little bit of carrot and pot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4.Finnally add the broth and b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6T09:57:29Z</dcterms:created>
  <dc:creator>SOBREMESA</dc:creator>
  <dc:description/>
  <dc:language>en-US</dc:language>
  <cp:lastModifiedBy>YOLI RG</cp:lastModifiedBy>
  <dcterms:modified xsi:type="dcterms:W3CDTF">2012-05-26T11:45:35Z</dcterms:modified>
  <cp:revision>4</cp:revision>
  <dc:subject/>
  <dc:title>Made by:</dc:title>
</cp:coreProperties>
</file>