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7B3C-76C8-40CF-8DD3-2906EF058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27C7-1351-42F8-B518-6A4A58857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AA0E-3F3B-46B1-8FA7-05FE458A0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1264-24B5-46BB-8A84-77FBF766A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9380-87C9-4FCD-9078-B498F4016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C4C4-6274-4E9C-AFFC-FBC8F29F4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6008-B3AD-4D86-AEA3-99F2AA189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5E67-42D2-4EB8-A836-39F543FFC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C419-1760-410F-AF44-663328A32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68A4-EF7E-44E4-A6A9-EB202A183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9DE7-7752-4D46-958F-151FDDF48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F3C4-5CAA-4381-953C-05949A356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A4E56-CBEE-44B9-81C7-C1DD2800E44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oper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476280"/>
            <a:ext cx="777240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 u="sng">
                <a:solidFill>
                  <a:srgbClr val="ff0066"/>
                </a:solidFill>
                <a:uFillTx/>
                <a:latin typeface="Comic Sans MS"/>
              </a:rPr>
              <a:t>Made by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95280" y="2420640"/>
            <a:ext cx="8569440" cy="360036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0066"/>
                </a:solidFill>
                <a:latin typeface="Cooper Black"/>
              </a:rPr>
              <a:t>MARI CARMEN CAMPAÑA GÓMEZ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0066"/>
                </a:solidFill>
                <a:latin typeface="Cooper Black"/>
              </a:rPr>
              <a:t>1º B BIL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 u="sng">
                <a:solidFill>
                  <a:srgbClr val="ff0066"/>
                </a:solidFill>
                <a:uFillTx/>
                <a:latin typeface="Cooper Black"/>
              </a:rPr>
              <a:t>Soup of semola with chick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347640" y="2637000"/>
            <a:ext cx="23036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sopa_445d87"/>
          <p:cNvPicPr/>
          <p:nvPr/>
        </p:nvPicPr>
        <p:blipFill>
          <a:blip r:embed="rId1"/>
          <a:stretch/>
        </p:blipFill>
        <p:spPr>
          <a:xfrm>
            <a:off x="755640" y="1557360"/>
            <a:ext cx="7777080" cy="49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600" spc="-1" strike="noStrike" u="sng">
                <a:solidFill>
                  <a:srgbClr val="ff0066"/>
                </a:solidFill>
                <a:uFillTx/>
                <a:latin typeface="Cooper Black"/>
              </a:rPr>
              <a:t>Ingredient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250920" y="1699920"/>
            <a:ext cx="417672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omic Sans MS"/>
              </a:rPr>
              <a:t>1 chicken w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omic Sans MS"/>
              </a:rPr>
              <a:t>1 lee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omic Sans MS"/>
              </a:rPr>
              <a:t>1 carro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omic Sans MS"/>
              </a:rPr>
              <a:t>150 gr. Bee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omic Sans MS"/>
              </a:rPr>
              <a:t>1 pota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Potato_heart_mutation"/>
          <p:cNvPicPr/>
          <p:nvPr/>
        </p:nvPicPr>
        <p:blipFill>
          <a:blip r:embed="rId1"/>
          <a:stretch/>
        </p:blipFill>
        <p:spPr>
          <a:xfrm>
            <a:off x="3276720" y="4653000"/>
            <a:ext cx="2232000" cy="19508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Health-Benefits-of-Carrot"/>
          <p:cNvPicPr/>
          <p:nvPr/>
        </p:nvPicPr>
        <p:blipFill>
          <a:blip r:embed="rId2"/>
          <a:stretch/>
        </p:blipFill>
        <p:spPr>
          <a:xfrm>
            <a:off x="6227640" y="4005360"/>
            <a:ext cx="2497320" cy="1665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alitas"/>
          <p:cNvPicPr/>
          <p:nvPr/>
        </p:nvPicPr>
        <p:blipFill>
          <a:blip r:embed="rId3"/>
          <a:stretch/>
        </p:blipFill>
        <p:spPr>
          <a:xfrm>
            <a:off x="4500720" y="1628640"/>
            <a:ext cx="259236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 u="sng">
                <a:solidFill>
                  <a:srgbClr val="ff0066"/>
                </a:solidFill>
                <a:uFillTx/>
                <a:latin typeface="Cooper Black"/>
              </a:rPr>
              <a:t>Equipme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A p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Pot"/>
          <p:cNvPicPr/>
          <p:nvPr/>
        </p:nvPicPr>
        <p:blipFill>
          <a:blip r:embed="rId1"/>
          <a:stretch/>
        </p:blipFill>
        <p:spPr>
          <a:xfrm>
            <a:off x="4067280" y="1628640"/>
            <a:ext cx="473868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 u="sng">
                <a:solidFill>
                  <a:srgbClr val="ff0066"/>
                </a:solidFill>
                <a:uFillTx/>
                <a:latin typeface="Cooper Black"/>
              </a:rPr>
              <a:t>Method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1. First, put  everything into a pot for 20 minutes over low he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2. Second, it is removed and cast into the bro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3.Later, chop the wing into pieces, add a little bit of carrot and pot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4.Finnally add the broth and boi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6T09:57:29Z</dcterms:created>
  <dc:creator>SOBREMESA</dc:creator>
  <dc:description/>
  <dc:language>en-US</dc:language>
  <cp:lastModifiedBy>YOLI RG</cp:lastModifiedBy>
  <dcterms:modified xsi:type="dcterms:W3CDTF">2012-05-26T11:45:35Z</dcterms:modified>
  <cp:revision>4</cp:revision>
  <dc:subject/>
  <dc:title>Made by:</dc:title>
</cp:coreProperties>
</file>