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E01-4D1A-468D-9173-52306627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F98-547E-473B-99F2-66C7F45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276-6AF4-4657-A54F-4F457C7C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790-E727-42E7-8496-BB7E863D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50E5A-758F-4E81-9190-FA43D247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5B3C-630B-41DB-9F6B-8BC2C14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E3461-3AF9-4426-9C89-CF36010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2AE0-168C-47C3-B635-A45C1C3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76024-B7D5-43FE-8CEA-4E7470C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72B06-BEE4-478C-890B-60E3D96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0CCE-EEF4-40B5-B93E-52F37F6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8D1-26A1-4CA1-8D08-3AE5FE1E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8A4EB-8818-45D9-B49A-9B40BAE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E2364-22BF-43E8-9F09-6C111AC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F09F-5D3D-474A-9A62-84BB6FC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03363-68F4-4246-B2A0-976B7D5B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9AAC-BC9D-46A9-8130-65B319E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ED2-DF1E-4DE4-BFDE-482106C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ACC-0A86-4D1F-800D-A65AA250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52D-22A0-4080-A827-1423EEE8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ADC-2230-4592-BBBE-EBFE679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BEA-B83B-4DC9-AA6B-D804AD5D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2F1-D4B2-4440-BA01-A7093D00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9C6-059B-475B-9B6F-60D4267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2F8-5CE1-4EE5-BCEE-51816E5E3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F1F1-EABF-49D2-B276-9528AA208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MY </a:t>
            </a:r>
            <a:r>
              <a:rPr b="1" i="1" lang="en-US" sz="4400" spc="-1" strike="noStrike">
                <a:solidFill>
                  <a:srgbClr val="fcfc08"/>
                </a:solidFill>
                <a:latin typeface="Tahoma"/>
              </a:rPr>
              <a:t>ABC</a:t>
            </a: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 BO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58920" y="5877000"/>
            <a:ext cx="5832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505"/>
                </a:solidFill>
                <a:latin typeface="Tahoma"/>
              </a:rPr>
              <a:t>LU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R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836200">
            <a:off x="826560" y="1628640"/>
            <a:ext cx="7848720" cy="3743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I   </a:t>
            </a:r>
            <a:r>
              <a:rPr b="1" i="1" lang="en-US" sz="4400" spc="-1" strike="noStrike">
                <a:solidFill>
                  <a:srgbClr val="336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7344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GU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038400">
            <a:off x="3492360" y="148392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32d6"/>
                </a:solidFill>
                <a:latin typeface="Tahoma"/>
              </a:rPr>
              <a:t>J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897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AGU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82200">
            <a:off x="1331640" y="1916280"/>
            <a:ext cx="6913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K </a:t>
            </a:r>
            <a:r>
              <a:rPr b="1" lang="en-US" sz="4400" spc="-1" strike="noStrike">
                <a:solidFill>
                  <a:srgbClr val="00ffff"/>
                </a:solidFill>
                <a:latin typeface="Tahoma"/>
              </a:rPr>
              <a:t> FOR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5977080" cy="47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659520" y="2755080"/>
            <a:ext cx="3405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ffff00"/>
                    </a:gs>
                    <a:gs pos="100000">
                      <a:srgbClr val="fd0000"/>
                    </a:gs>
                  </a:gsLst>
                  <a:lin ang="0"/>
                </a:gradFill>
                <a:latin typeface="Arial Black"/>
              </a:rPr>
              <a:t>KANGARO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d0000"/>
                  </a:gs>
                  <a:gs pos="50000">
                    <a:srgbClr val="ffff00"/>
                  </a:gs>
                  <a:gs pos="100000">
                    <a:srgbClr val="fd0000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f5ff"/>
                </a:solidFill>
                <a:latin typeface="Tahoma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e0000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3454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32000" y="5445000"/>
            <a:ext cx="619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L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M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580536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Times New Roman"/>
              </a:rPr>
              <a:t>MONKEY  AND  MOU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067200">
            <a:off x="610920" y="1773360"/>
            <a:ext cx="3673440" cy="33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820800">
            <a:off x="5292360" y="191628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5589720"/>
            <a:ext cx="12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N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35600">
            <a:off x="3635280" y="1916280"/>
            <a:ext cx="34578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O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5013360"/>
            <a:ext cx="90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ott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964800">
            <a:off x="2842920" y="1773360"/>
            <a:ext cx="3816360" cy="44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4751280" cy="54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273400">
            <a:off x="-1441440" y="317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ENGU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Q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5229360"/>
            <a:ext cx="144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QU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6121440" cy="36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260720" y="3213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RABBIT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00ff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 rot="408600">
            <a:off x="250560" y="551664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000"/>
                </a:solidFill>
                <a:latin typeface="Tahoma"/>
              </a:rPr>
              <a:t>S </a:t>
            </a:r>
            <a:r>
              <a:rPr b="1" i="1" lang="en-US" sz="4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c8604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5516640"/>
            <a:ext cx="259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QUI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432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522936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URKE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U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2708280"/>
            <a:ext cx="20286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UNI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49672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V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5445000"/>
            <a:ext cx="324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VIR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5373720"/>
            <a:ext cx="6192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W H A L E  A N D  W O L F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6240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c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537372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XYLOPH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26616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5589720"/>
            <a:ext cx="31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2705a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YETI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2705a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347000">
            <a:off x="3419280" y="220500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404640"/>
            <a:ext cx="77756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Y  PARA  EL  FINAL  ...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Z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51664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ZEBRA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44114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7" name="drumroll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16000" y="1125360"/>
            <a:ext cx="7129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0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BYE ,  BYE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0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6021360"/>
            <a:ext cx="7490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B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5373720"/>
            <a:ext cx="410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crocodr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0072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D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915600">
            <a:off x="684000" y="1699920"/>
            <a:ext cx="770544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240000">
            <a:off x="323640" y="522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000000"/>
                    </a:gs>
                    <a:gs pos="100000">
                      <a:srgbClr val="fd0000"/>
                    </a:gs>
                  </a:gsLst>
                  <a:lin ang="5760000"/>
                </a:gradFill>
                <a:latin typeface="Times New Roman"/>
              </a:rPr>
              <a:t>D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0000"/>
                  </a:gs>
                  <a:gs pos="50000">
                    <a:srgbClr val="000000"/>
                  </a:gs>
                  <a:gs pos="100000">
                    <a:srgbClr val="fd0000"/>
                  </a:gs>
                </a:gsLst>
                <a:lin ang="576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21247800">
            <a:off x="6946920" y="5281200"/>
            <a:ext cx="187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754000"/>
                </a:gradFill>
                <a:latin typeface="Impact"/>
              </a:rPr>
              <a:t>ELEP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754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1130200">
            <a:off x="394920" y="1557000"/>
            <a:ext cx="626580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F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 rot="21471600">
            <a:off x="250560" y="4300200"/>
            <a:ext cx="141120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FOX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94600">
            <a:off x="2627280" y="1700280"/>
            <a:ext cx="5472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FOR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5661000"/>
            <a:ext cx="5105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Times New Roman"/>
              </a:rPr>
              <a:t>GIRAFFE AND GORI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232600">
            <a:off x="539280" y="1483920"/>
            <a:ext cx="331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982800">
            <a:off x="4787640" y="2060280"/>
            <a:ext cx="396072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0000"/>
                </a:solidFill>
                <a:latin typeface="Tahoma"/>
              </a:rPr>
              <a:t>H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194472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59892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322800">
            <a:off x="154764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HAMST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9:03Z</dcterms:created>
  <dc:creator>Lui$ G€rardo Chagua</dc:creator>
  <dc:description/>
  <dc:language>en-US</dc:language>
  <cp:lastModifiedBy>Lui$ G€rardo Chagua</cp:lastModifiedBy>
  <dcterms:modified xsi:type="dcterms:W3CDTF">2011-10-20T16:30:22Z</dcterms:modified>
  <cp:revision>12</cp:revision>
  <dc:subject/>
  <dc:title>Diapositiva 3</dc:title>
</cp:coreProperties>
</file>