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7DB-61CD-49C9-94F8-873AB58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138-54F7-4595-B10B-9BF619EB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B1-31B2-4070-BE75-CE07166E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DFA-76C5-4FBF-A767-ECC95ECE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E13C-E96D-45E6-B87C-5A3E9CC6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6D27A-6852-4ABF-A2BA-0CD5EB1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E2924-018A-4907-87A8-1A6BF7AB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1BABE-B1CD-4038-AD46-FCC17E3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B4F5-F329-4471-BB18-320BACB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D940B-8D75-4950-990D-D5D39096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B902-5CAD-4D3F-816D-5D2C706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52E-3953-4361-9B7E-5945EC6D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85A6E-B6F7-4C26-AE32-E26FBCD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32DD1-1E3E-43CF-B942-45B7CB20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2D63-E48D-4AFF-B1E4-AEC84F7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C4D99-CA2B-49A0-9EDE-D712F620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15BA9-FEF5-4EE3-A996-9DB410D7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5DA-8396-4E5D-817F-BE238A6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6B9-DB2D-4C96-B502-2597A2C0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639-0970-48E3-8A2C-936540C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1B2-E201-442E-9B12-AD5B009E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3C3-0653-433B-92F1-A4C6866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FE1-54DD-4CED-85CF-A44E601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F3-792D-4BFE-9B10-F06696E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52D-7FC5-498F-AA08-E7D1E6395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0D8-D97D-484C-84EB-06532DAEA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MY </a:t>
            </a:r>
            <a:r>
              <a:rPr b="1" i="1" lang="en-US" sz="4400" spc="-1" strike="noStrike">
                <a:solidFill>
                  <a:srgbClr val="fcfc08"/>
                </a:solidFill>
                <a:latin typeface="Tahoma"/>
              </a:rPr>
              <a:t>ABC</a:t>
            </a:r>
            <a:r>
              <a:rPr b="1" i="1" lang="en-US" sz="4400" spc="-1" strike="noStrike">
                <a:solidFill>
                  <a:srgbClr val="ff0505"/>
                </a:solidFill>
                <a:latin typeface="Tahoma"/>
              </a:rPr>
              <a:t> BO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58920" y="5877000"/>
            <a:ext cx="5832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505"/>
                </a:solidFill>
                <a:latin typeface="Tahoma"/>
              </a:rPr>
              <a:t>LU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R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836200">
            <a:off x="826560" y="1628640"/>
            <a:ext cx="7848720" cy="3743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I   </a:t>
            </a:r>
            <a:r>
              <a:rPr b="1" i="1" lang="en-US" sz="4400" spc="-1" strike="noStrike">
                <a:solidFill>
                  <a:srgbClr val="336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7344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GU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038400">
            <a:off x="3492360" y="148392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32d6"/>
                </a:solidFill>
                <a:latin typeface="Tahoma"/>
              </a:rPr>
              <a:t>J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897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AGU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82200">
            <a:off x="1331640" y="1916280"/>
            <a:ext cx="6913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K </a:t>
            </a:r>
            <a:r>
              <a:rPr b="1" lang="en-US" sz="4400" spc="-1" strike="noStrike">
                <a:solidFill>
                  <a:srgbClr val="00ffff"/>
                </a:solidFill>
                <a:latin typeface="Tahoma"/>
              </a:rPr>
              <a:t> FOR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5977080" cy="47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659520" y="2755080"/>
            <a:ext cx="3405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ffff00"/>
                    </a:gs>
                    <a:gs pos="100000">
                      <a:srgbClr val="fd0000"/>
                    </a:gs>
                  </a:gsLst>
                  <a:lin ang="0"/>
                </a:gradFill>
                <a:latin typeface="Arial Black"/>
              </a:rPr>
              <a:t>KANGARO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d0000"/>
                  </a:gs>
                  <a:gs pos="50000">
                    <a:srgbClr val="ffff00"/>
                  </a:gs>
                  <a:gs pos="100000">
                    <a:srgbClr val="fd0000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f5ff"/>
                </a:solidFill>
                <a:latin typeface="Tahoma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e0000"/>
                </a:solidFill>
                <a:latin typeface="Tahoma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2d6a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3454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32000" y="5445000"/>
            <a:ext cx="619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L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M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580536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Times New Roman"/>
              </a:rPr>
              <a:t>MONKEY  AND  MOU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067200">
            <a:off x="610920" y="1773360"/>
            <a:ext cx="3673440" cy="33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820800">
            <a:off x="5292360" y="191628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5589720"/>
            <a:ext cx="12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N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35600">
            <a:off x="3635280" y="1916280"/>
            <a:ext cx="34578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O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5013360"/>
            <a:ext cx="90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ott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964800">
            <a:off x="2842920" y="1773360"/>
            <a:ext cx="3816360" cy="44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4751280" cy="54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273400">
            <a:off x="-1441440" y="317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ENGU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Q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5229360"/>
            <a:ext cx="1440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QU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6121440" cy="36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260720" y="3213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RABBIT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5" name="drumroll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  </a:t>
            </a:r>
            <a:r>
              <a:rPr b="1" i="1" lang="en-US" sz="4400" spc="-1" strike="noStrike">
                <a:solidFill>
                  <a:srgbClr val="00ff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 rot="408600">
            <a:off x="250560" y="551664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000"/>
                </a:solidFill>
                <a:latin typeface="Tahoma"/>
              </a:rPr>
              <a:t>S </a:t>
            </a:r>
            <a:r>
              <a:rPr b="1" i="1" lang="en-US" sz="4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c8604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5516640"/>
            <a:ext cx="259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QUI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432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522936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URKE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U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2708280"/>
            <a:ext cx="20286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UNI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49672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V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5445000"/>
            <a:ext cx="324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VIR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5373720"/>
            <a:ext cx="6192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W H A L E  A N D  W O L F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6240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c6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537372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XYLOPH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26616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5589720"/>
            <a:ext cx="31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2705a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YETI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2705a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347000">
            <a:off x="3419280" y="220500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404640"/>
            <a:ext cx="77756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Y  PARA  EL  FINAL  ...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Z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cc9900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9933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51664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ZEBRA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44114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7" name="drumroll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16000" y="1125360"/>
            <a:ext cx="7129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0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BYE ,  BYE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0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6021360"/>
            <a:ext cx="7490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B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5373720"/>
            <a:ext cx="410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crocodr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0072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D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915600">
            <a:off x="684000" y="1699920"/>
            <a:ext cx="770544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240000">
            <a:off x="323640" y="522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0000"/>
                    </a:gs>
                    <a:gs pos="50000">
                      <a:srgbClr val="000000"/>
                    </a:gs>
                    <a:gs pos="100000">
                      <a:srgbClr val="fd0000"/>
                    </a:gs>
                  </a:gsLst>
                  <a:lin ang="5760000"/>
                </a:gradFill>
                <a:latin typeface="Times New Roman"/>
              </a:rPr>
              <a:t>D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0000"/>
                  </a:gs>
                  <a:gs pos="50000">
                    <a:srgbClr val="000000"/>
                  </a:gs>
                  <a:gs pos="100000">
                    <a:srgbClr val="fd0000"/>
                  </a:gs>
                </a:gsLst>
                <a:lin ang="576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random/>
    <p:sndAc>
      <p:stSnd>
        <p:snd r:embed="rId3" name="drumroll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21247800">
            <a:off x="6946920" y="5281200"/>
            <a:ext cx="187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754000"/>
                </a:gradFill>
                <a:latin typeface="Impact"/>
              </a:rPr>
              <a:t>ELEP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754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1130200">
            <a:off x="394920" y="1557000"/>
            <a:ext cx="626580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ahoma"/>
              </a:rPr>
              <a:t>F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efe44"/>
                </a:solidFill>
                <a:latin typeface="Tahoma"/>
              </a:rPr>
              <a:t>FOR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 rot="21471600">
            <a:off x="250560" y="4300200"/>
            <a:ext cx="141120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FOX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94600">
            <a:off x="2627280" y="1700280"/>
            <a:ext cx="5472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3" name="drumroll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FOR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5661000"/>
            <a:ext cx="5105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Times New Roman"/>
              </a:rPr>
              <a:t>GIRAFFE AND GORI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232600">
            <a:off x="539280" y="1483920"/>
            <a:ext cx="331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982800">
            <a:off x="4787640" y="2060280"/>
            <a:ext cx="396072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0000"/>
                </a:solidFill>
                <a:latin typeface="Tahoma"/>
              </a:rPr>
              <a:t>H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66"/>
                </a:solidFill>
                <a:latin typeface="Tahoma"/>
              </a:rPr>
              <a:t>FOR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032d6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194472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59892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322800">
            <a:off x="154764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HAMST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random/>
    <p:sndAc>
      <p:stSnd>
        <p:snd r:embed="rId4" name="drumroll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9:03Z</dcterms:created>
  <dc:creator>Lui$ G€rardo Chagua</dc:creator>
  <dc:description/>
  <dc:language>en-US</dc:language>
  <cp:lastModifiedBy>Lui$ G€rardo Chagua</cp:lastModifiedBy>
  <dcterms:modified xsi:type="dcterms:W3CDTF">2011-10-20T16:30:22Z</dcterms:modified>
  <cp:revision>12</cp:revision>
  <dc:subject/>
  <dc:title>Diapositiva 3</dc:title>
</cp:coreProperties>
</file>